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B996-B568-4947-A96E-B845E3A06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difference is the existence of an alternative source of law: a book, i.e., the bible or the Torah or the Koran, which it is felt must be harmonized in some way with what reason (philosophy) s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ar is made possible in part by the Christian conception of a community of human beings under god, as well as by the need to harmonize Christian precep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medieval Europe was a setting of near-constant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alternative is Christian pacifism (which takes the teachings of the gospel as not to be reconciled with pragmatic political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sulting theory is not utopian, but it is not uncritical. It serves to criticize particular wars, though not all wars (unlike pacif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authority is one that is responsible for the commo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Aquinas’ time it was not entirely uncommon for there to be “private”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is the key to Aquinas’ reconciliation of the Gospel with the reality of war: war is always for the protection of the common good, not a private goo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eventive war jus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ar against heretics and unbelievers justified? Here the problem of whose good is the common good that needs protection comes up again; for Aquinas in part this good is the good of Christend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rightful intention” leads directly to the second part fo the doctrine of just war, the regulation of conduct in wa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innocent immunity is not specifically stated by Aquinas; you need to wait uintil Vitoria for a clear formulation of it. But the basic elements are no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trine of double effect to some degree goes against the principle of innocent immunity; in order to harmonize them you need something like a principle of proportion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ot really a Stoic, though close to the Stoics; he studied with some of them. He is a sort of eclectic thinker; he usually called himself an Academic, i.e., a Platonis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man statesman and philosopher. He lived at a time when it was becoming increasingly obvious that the </a:t>
            </a:r>
            <a:r>
              <a:rPr b="0" i="1" lang="en-NZ" sz="1000" spc="-1" strike="noStrike">
                <a:solidFill>
                  <a:srgbClr val="000000"/>
                </a:solidFill>
                <a:latin typeface="Arial"/>
              </a:rPr>
              <a:t>polis</a:t>
            </a:r>
            <a:r>
              <a:rPr b="0" lang="en-NZ" sz="1000" spc="-1" strike="noStrike">
                <a:solidFill>
                  <a:srgbClr val="000000"/>
                </a:solidFill>
                <a:latin typeface="Arial"/>
              </a:rPr>
              <a:t> form of political community, described by Aristotle, just didn’t quite work anymore. In the late Roman Republic, the Roman empire had expanded to absorb most of the Mediterranean world in one form or another. </a:t>
            </a:r>
            <a:r>
              <a:rPr b="0" lang="en-GB" sz="1000" spc="-1" strike="noStrike">
                <a:solidFill>
                  <a:srgbClr val="000000"/>
                </a:solidFill>
                <a:latin typeface="Arial"/>
              </a:rPr>
              <a:t>Rome was not simply a </a:t>
            </a:r>
            <a:r>
              <a:rPr b="0" i="1" lang="en-GB" sz="1000" spc="-1" strike="noStrike">
                <a:solidFill>
                  <a:srgbClr val="000000"/>
                </a:solidFill>
                <a:latin typeface="Arial"/>
              </a:rPr>
              <a:t>polis </a:t>
            </a:r>
            <a:r>
              <a:rPr b="0" lang="en-GB" sz="1000" spc="-1" strike="noStrike">
                <a:solidFill>
                  <a:srgbClr val="000000"/>
                </a:solidFill>
                <a:latin typeface="Arial"/>
              </a:rPr>
              <a:t>with an empire attached to it (like Athens, or, in later times, Venice or Genoa); it was a full community of </a:t>
            </a:r>
            <a:r>
              <a:rPr b="0" i="1" lang="en-GB" sz="1000" spc="-1" strike="noStrike">
                <a:solidFill>
                  <a:srgbClr val="000000"/>
                </a:solidFill>
                <a:latin typeface="Arial"/>
              </a:rPr>
              <a:t>citizens</a:t>
            </a:r>
            <a:r>
              <a:rPr b="0" lang="en-GB" sz="1000" spc="-1" strike="noStrike">
                <a:solidFill>
                  <a:srgbClr val="000000"/>
                </a:solidFill>
                <a:latin typeface="Arial"/>
              </a:rPr>
              <a:t> over a large territory, integrating a vast number of people in the Italian peninsula within a </a:t>
            </a:r>
            <a:r>
              <a:rPr b="0" i="1" lang="en-GB" sz="1000" spc="-1" strike="noStrike">
                <a:solidFill>
                  <a:srgbClr val="000000"/>
                </a:solidFill>
                <a:latin typeface="Arial"/>
              </a:rPr>
              <a:t>political</a:t>
            </a:r>
            <a:r>
              <a:rPr b="0" lang="en-GB" sz="1000" spc="-1" strike="noStrike">
                <a:solidFill>
                  <a:srgbClr val="000000"/>
                </a:solidFill>
                <a:latin typeface="Arial"/>
              </a:rPr>
              <a:t> organization who in a “normal” empire would simply have been subjects of the metropolis. </a:t>
            </a:r>
            <a:r>
              <a:rPr b="0" lang="en-NZ" sz="1000" spc="-1" strike="noStrike">
                <a:solidFill>
                  <a:srgbClr val="000000"/>
                </a:solidFill>
                <a:latin typeface="Arial"/>
              </a:rPr>
              <a:t> The new situation required a rethinking of the idea of political community. Rome, at any rate, was not an Aristotelian </a:t>
            </a:r>
            <a:r>
              <a:rPr b="0" i="1" lang="en-NZ" sz="1000" spc="-1" strike="noStrike">
                <a:solidFill>
                  <a:srgbClr val="000000"/>
                </a:solidFill>
                <a:latin typeface="Arial"/>
              </a:rPr>
              <a:t>polis</a:t>
            </a:r>
            <a:r>
              <a:rPr b="0" lang="en-NZ" sz="1000" spc="-1" strike="noStrike">
                <a:solidFill>
                  <a:srgbClr val="000000"/>
                </a:solidFill>
                <a:latin typeface="Arial"/>
              </a:rPr>
              <a:t>, or at least Aristotle would not have thought that Rome was such a </a:t>
            </a:r>
            <a:r>
              <a:rPr b="0" i="1" lang="en-NZ" sz="1000" spc="-1" strike="noStrike">
                <a:solidFill>
                  <a:srgbClr val="000000"/>
                </a:solidFill>
                <a:latin typeface="Arial"/>
              </a:rPr>
              <a:t>polis</a:t>
            </a:r>
            <a:r>
              <a:rPr b="0" lang="en-NZ" sz="1000" spc="-1" strike="noStrike">
                <a:solidFill>
                  <a:srgbClr val="000000"/>
                </a:solidFill>
                <a:latin typeface="Arial"/>
              </a:rPr>
              <a: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icero does, in a way, is to synthetize elements of Stoic and Platonic-Aristotelian ideas of political community with particularly Roman ideas about the </a:t>
            </a:r>
            <a:r>
              <a:rPr b="0" i="1" lang="en-NZ" sz="1000" spc="-1" strike="noStrike">
                <a:solidFill>
                  <a:srgbClr val="000000"/>
                </a:solidFill>
                <a:latin typeface="Arial"/>
              </a:rPr>
              <a:t>res publica</a:t>
            </a:r>
            <a:r>
              <a:rPr b="0" lang="en-NZ" sz="1000" spc="-1" strike="noStrike">
                <a:solidFill>
                  <a:srgbClr val="000000"/>
                </a:solidFill>
                <a:latin typeface="Arial"/>
              </a:rPr>
              <a:t>. The result is a model of political community that is closer in some ways to our current notion of the state than anything that came before or would come along for a long time. In particular, this is a model of political community that makes it possible to talk about communities that are not as directly tied to their basis in other natural communities (unlike in Aristotle) and hence can be much larger than Aristotle’s ideal communities, and which also make it possible to talk (like the Stoics) of potential universal 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laims Erasmus m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state begins to be perverted by the eating of me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trast Cicero’s conception of citizenship with Aristotle’s: citizens are those who rule and ar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oman empire was in a sense a multicultural emp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 is a sense in which the republic is the most perfect community, as it is in Aristotle, the “first” community to which we owe the mo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octrine of just war in Aristotle, though Aristotle distinguishes between just and unjust w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oblem arises for Cicero in a way that did not arise for Aristotle. Cicero does not have a fully worked out theory of just war, but he certainly says much more on this problem than many others before him, in part because as a Roman statesman he is concerned both to justify and to criticize Roman poli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esar’s actions involved taking the property of other and engaging in conquest for gain, not for peace. Unfortunately, the long discussion of imperialism in book III of the De Republica is mostly lost, though similar discussions in De Officiis are still ex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4524D-FE20-4F6E-9676-6B83924CE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F8D8-A44C-435B-8A04-F318EAAB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E4838-36DF-4FAC-80CC-C71191F4E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B6E1-C224-41A0-A0A5-39438A09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A9AE-F711-46F9-B61A-F4D458AE5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5C6C-E28F-4936-97FE-F47D3265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5DB1F-AB0A-4932-8B56-5F977F74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1451-76F6-4BFE-8F27-37B91BEB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844C-3BE0-43D8-85B0-BB0F1DAB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F070-9660-4F1A-A57A-4A455EFF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1DD5-BAC2-474C-B08B-C58F318A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86B28-4F76-4657-B3FB-7E5C37E76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0996-82AB-402D-AD7D-324F75E4A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Just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1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09480" y="1143000"/>
            <a:ext cx="2276640" cy="3162240"/>
          </a:xfrm>
          <a:prstGeom prst="rect">
            <a:avLst/>
          </a:prstGeom>
          <a:ln w="0">
            <a:noFill/>
          </a:ln>
        </p:spPr>
      </p:pic>
      <p:pic>
        <p:nvPicPr>
          <p:cNvPr id="51" name="" descr=""/>
          <p:cNvPicPr/>
          <p:nvPr/>
        </p:nvPicPr>
        <p:blipFill>
          <a:blip r:embed="rId2"/>
          <a:stretch/>
        </p:blipFill>
        <p:spPr>
          <a:xfrm>
            <a:off x="6400800" y="1295280"/>
            <a:ext cx="20988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vs. medieval political thought</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key difference between Greek and (Western) medieval political thought?</a:t>
            </a:r>
            <a:endParaRPr b="0" lang="en-US" sz="3200" spc="-1" strike="noStrike">
              <a:solidFill>
                <a:srgbClr val="000000"/>
              </a:solidFill>
              <a:latin typeface="Arial"/>
            </a:endParaRPr>
          </a:p>
        </p:txBody>
      </p:sp>
      <p:pic>
        <p:nvPicPr>
          <p:cNvPr id="84" name="" descr=""/>
          <p:cNvPicPr/>
          <p:nvPr/>
        </p:nvPicPr>
        <p:blipFill>
          <a:blip r:embed="rId1"/>
          <a:stretch/>
        </p:blipFill>
        <p:spPr>
          <a:xfrm>
            <a:off x="2895480" y="3048120"/>
            <a:ext cx="3333960" cy="3314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quinas and just war theor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ext: Rediscovery of Aristotle in the W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ynthesis of reason (Aristotelian philosophy) and fa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ystematization of just war ideas from Augustine onw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 war only a small part of the </a:t>
            </a:r>
            <a:r>
              <a:rPr b="0" i="1" lang="en-NZ" sz="3200" spc="-1" strike="noStrike">
                <a:solidFill>
                  <a:srgbClr val="000000"/>
                </a:solidFill>
                <a:latin typeface="Arial"/>
              </a:rPr>
              <a:t>Sum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 war theory in medieval tim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blem: Reconciling commonsense moral intuitions and pragmatic political life with the apparently explicit teachings of the gosp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justice of going to war (</a:t>
            </a:r>
            <a:r>
              <a:rPr b="0" i="1" lang="en-NZ" sz="4000" spc="-1" strike="noStrike">
                <a:solidFill>
                  <a:srgbClr val="000000"/>
                </a:solidFill>
                <a:latin typeface="Arial"/>
              </a:rPr>
              <a:t>ius ad bellum</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by proper public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as just punishment for wrong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with a right in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authorit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proper public authority? Why can’t private individuals declar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e good is the common good being protected?</a:t>
            </a:r>
            <a:endParaRPr b="0" lang="en-US" sz="3200" spc="-1" strike="noStrike">
              <a:solidFill>
                <a:srgbClr val="000000"/>
              </a:solidFill>
              <a:latin typeface="Arial"/>
            </a:endParaRPr>
          </a:p>
        </p:txBody>
      </p:sp>
      <p:pic>
        <p:nvPicPr>
          <p:cNvPr id="93" name="" descr=""/>
          <p:cNvPicPr/>
          <p:nvPr/>
        </p:nvPicPr>
        <p:blipFill>
          <a:blip r:embed="rId1"/>
          <a:stretch/>
        </p:blipFill>
        <p:spPr>
          <a:xfrm>
            <a:off x="3048120" y="3200400"/>
            <a:ext cx="2419200" cy="3200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 for wrongdoing</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punishable wrongdoing? What faults are punishable by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ful inten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a rightful intention? What actions show that there is no rightful in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ice in war (</a:t>
            </a:r>
            <a:r>
              <a:rPr b="0" i="1" lang="en-NZ" sz="4000" spc="-1" strike="noStrike">
                <a:solidFill>
                  <a:srgbClr val="000000"/>
                </a:solidFill>
                <a:latin typeface="Arial"/>
              </a:rPr>
              <a:t>ius in bellum</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 of innocent i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ctrine of double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 of propor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cent i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ounts as “the innoc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effec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are should be taken to avoid the deaths of innoc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a:t>
            </a:r>
            <a:endParaRPr b="0" lang="en-US" sz="4400" spc="-1" strike="noStrike">
              <a:solidFill>
                <a:srgbClr val="000000"/>
              </a:solidFill>
              <a:latin typeface="Arial"/>
            </a:endParaRPr>
          </a:p>
        </p:txBody>
      </p:sp>
      <p:pic>
        <p:nvPicPr>
          <p:cNvPr id="53" name="" descr=""/>
          <p:cNvPicPr/>
          <p:nvPr/>
        </p:nvPicPr>
        <p:blipFill>
          <a:blip r:embed="rId1"/>
          <a:stretch/>
        </p:blipFill>
        <p:spPr>
          <a:xfrm>
            <a:off x="1116000" y="1484280"/>
            <a:ext cx="7201080" cy="449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rasmian pacifis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action to scholastic exercises in jus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topian: unwilling to compromise with existing power structures or even our common s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hetorical: not a systematic presentation of arg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rasmian pacifism</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n is a social animal, and is thus repulsed by violence. But this natural state can be perverted by deg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European warfare among princes, there can hardly be any just clai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unjust peace is often, if not always, better than a just war, assuming there are any s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plomacy and other means are often not given any time to wor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just war theory serve to justify anything?</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develops from natural needs for the sake of a good life that includes soci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itizens are those who agree on a common conception of law a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es not assume that there are special natural differences among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est regime is a mixed regime, in fact a regime much like the Rome of Scipio’s generation (before Cicero’s bir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ncentric circles of society</a:t>
            </a:r>
            <a:endParaRPr b="0" lang="en-US" sz="4400" spc="-1" strike="noStrike">
              <a:solidFill>
                <a:srgbClr val="000000"/>
              </a:solidFill>
              <a:latin typeface="Arial"/>
            </a:endParaRPr>
          </a:p>
        </p:txBody>
      </p:sp>
      <p:sp>
        <p:nvSpPr>
          <p:cNvPr id="57" name=""/>
          <p:cNvSpPr/>
          <p:nvPr/>
        </p:nvSpPr>
        <p:spPr>
          <a:xfrm>
            <a:off x="3924360" y="2997360"/>
            <a:ext cx="1295280" cy="11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419640" y="2492280"/>
            <a:ext cx="2304720" cy="21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771640" y="1773360"/>
            <a:ext cx="360072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a:off x="4572000" y="2133720"/>
            <a:ext cx="2736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35280" y="2421000"/>
            <a:ext cx="194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55640" y="3645000"/>
            <a:ext cx="244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6156360" y="515772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77080" y="558972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All of huma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Shares: common reason</a:t>
            </a:r>
            <a:endParaRPr b="0" lang="en-US" sz="1800" spc="-1" strike="noStrike">
              <a:solidFill>
                <a:srgbClr val="000000"/>
              </a:solidFill>
              <a:latin typeface="Arial"/>
            </a:endParaRPr>
          </a:p>
        </p:txBody>
      </p:sp>
      <p:sp>
        <p:nvSpPr>
          <p:cNvPr id="65" name=""/>
          <p:cNvSpPr/>
          <p:nvPr/>
        </p:nvSpPr>
        <p:spPr>
          <a:xfrm>
            <a:off x="179280" y="4653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Cultural group</a:t>
            </a:r>
            <a:endParaRPr b="0" lang="en-US" sz="1800" spc="-1" strike="noStrike">
              <a:solidFill>
                <a:srgbClr val="000000"/>
              </a:solidFill>
              <a:latin typeface="Arial"/>
            </a:endParaRPr>
          </a:p>
        </p:txBody>
      </p:sp>
      <p:sp>
        <p:nvSpPr>
          <p:cNvPr id="66" name=""/>
          <p:cNvSpPr/>
          <p:nvPr/>
        </p:nvSpPr>
        <p:spPr>
          <a:xfrm>
            <a:off x="179280" y="1916280"/>
            <a:ext cx="151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Kinsmen, non-immediate  family</a:t>
            </a:r>
            <a:endParaRPr b="0" lang="en-US" sz="1800" spc="-1" strike="noStrike">
              <a:solidFill>
                <a:srgbClr val="000000"/>
              </a:solidFill>
              <a:latin typeface="Arial"/>
            </a:endParaRPr>
          </a:p>
        </p:txBody>
      </p:sp>
      <p:sp>
        <p:nvSpPr>
          <p:cNvPr id="67" name=""/>
          <p:cNvSpPr/>
          <p:nvPr/>
        </p:nvSpPr>
        <p:spPr>
          <a:xfrm>
            <a:off x="7380360" y="1628640"/>
            <a:ext cx="1295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Parents, immediate 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Shares: natural affection plus everything else</a:t>
            </a:r>
            <a:endParaRPr b="0" lang="en-US" sz="1800" spc="-1" strike="noStrike">
              <a:solidFill>
                <a:srgbClr val="000000"/>
              </a:solidFill>
              <a:latin typeface="Arial"/>
            </a:endParaRPr>
          </a:p>
        </p:txBody>
      </p:sp>
      <p:sp>
        <p:nvSpPr>
          <p:cNvPr id="68" name=""/>
          <p:cNvSpPr/>
          <p:nvPr/>
        </p:nvSpPr>
        <p:spPr>
          <a:xfrm>
            <a:off x="468360" y="558972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Where should we put our political community?</a:t>
            </a:r>
            <a:endParaRPr b="0" lang="en-US" sz="1800" spc="-1" strike="noStrike">
              <a:solidFill>
                <a:srgbClr val="000000"/>
              </a:solidFill>
              <a:latin typeface="Arial"/>
            </a:endParaRPr>
          </a:p>
        </p:txBody>
      </p:sp>
      <p:sp>
        <p:nvSpPr>
          <p:cNvPr id="69" name=""/>
          <p:cNvSpPr/>
          <p:nvPr/>
        </p:nvSpPr>
        <p:spPr>
          <a:xfrm>
            <a:off x="1828800" y="1523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uti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share </a:t>
            </a:r>
            <a:r>
              <a:rPr b="0" i="1" lang="en-NZ" sz="2800" spc="-1" strike="noStrike">
                <a:solidFill>
                  <a:srgbClr val="000000"/>
                </a:solidFill>
                <a:latin typeface="Arial"/>
              </a:rPr>
              <a:t>less </a:t>
            </a:r>
            <a:r>
              <a:rPr b="0" lang="en-NZ" sz="2800" spc="-1" strike="noStrike">
                <a:solidFill>
                  <a:srgbClr val="000000"/>
                </a:solidFill>
                <a:latin typeface="Arial"/>
              </a:rPr>
              <a:t>with our co-citizens than with our family, for ex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we owe </a:t>
            </a:r>
            <a:r>
              <a:rPr b="0" i="1" lang="en-NZ" sz="2800" spc="-1" strike="noStrike">
                <a:solidFill>
                  <a:srgbClr val="000000"/>
                </a:solidFill>
                <a:latin typeface="Arial"/>
              </a:rPr>
              <a:t>the republic</a:t>
            </a:r>
            <a:r>
              <a:rPr b="0" lang="en-NZ" sz="2800" spc="-1" strike="noStrike">
                <a:solidFill>
                  <a:srgbClr val="000000"/>
                </a:solidFill>
                <a:latin typeface="Arial"/>
              </a:rPr>
              <a:t> (the common concern) more than to other commun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vertheless, justice implies giving each natural community its due, including huma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natural law to which we must conform if we are to be happy; reason is the natural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wa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something like the Stoic idea of a universal community under natur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that war be understood as something in need of regulation, not elim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 be just or unjust, but justice does not depend on the natural inferiority of oth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depends on whether the war is justified by the need for peace an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ther it has been properly declared, and preceded by good-faith efforts at solving the problem peacefu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also honourable and dishonourable or undertaking warf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y of the peoples defeated by Rome went on to become its citizens; such wars were just, and that republican  empire is justi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048120" y="3200400"/>
            <a:ext cx="2755800" cy="33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vertheless, Cicero argues that some of the conquests after Scipio’s time were unj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3200400" y="2819520"/>
            <a:ext cx="2676600" cy="36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8:46:17Z</dcterms:created>
  <dc:creator>Xavier Marquez</dc:creator>
  <dc:description/>
  <dc:language>en-US</dc:language>
  <cp:lastModifiedBy>Full Name</cp:lastModifiedBy>
  <dcterms:modified xsi:type="dcterms:W3CDTF">2008-07-31T20:50:44Z</dcterms:modified>
  <cp:revision>5</cp:revision>
  <dc:subject/>
  <dc:title>Cicero and Medieval Thought</dc:title>
</cp:coreProperties>
</file>